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719-E9A9-4A66-965B-CF8BFA4A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03B-6A5B-45B9-AB3C-6121826F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0D0-24CC-4D27-AD56-1CAF21A9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E3C-D556-487F-862F-BD6A8CB7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3CF4-F54C-4C86-9BF6-87B64519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4E54-CB60-426B-BBA1-4AC54D95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0BC7-7000-4F65-8A67-E664674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CE7F-864B-4FC4-8F2C-09A07A0A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7452-B454-48BF-A656-E7F5C447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DBE3-2280-4243-AD39-9FCAF0DB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8938-CE73-4E59-8FA1-A173F304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4D9-8B8A-4C2E-B204-5D516834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EB3C-FD58-4D75-8530-69E9495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4FF0-BE07-4159-9AD3-C9FE368D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748F-6B31-4716-86DB-64379A03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F059-2800-4B74-8414-C8634B4D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31D4-EF61-41F8-85B6-11D8C7B3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9B7-934E-4F13-9998-4B95EF58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1132-41E2-49DB-846E-BEF37825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62BA-9A6D-44F1-97F5-EC463B6F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852D-71F1-439A-95EB-449C01B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901-72D5-4005-9D81-8A30333F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15DB-FE8B-4236-BA68-2F4A150E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CD9E-9815-47AF-AA98-FCA326EA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D718-4812-4345-8033-3B5ED31A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F8CF-45E5-4620-A1E2-16B817CB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C1FD-F295-44B1-9741-EFB3686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25B4-138F-410C-BA07-115BA66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0686-A115-4C18-A883-F0BE259B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B5FE-DEF2-4E80-BCA9-B4D38D66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9C0C-67F9-4167-B262-C9F307A6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215-7E87-47CF-A972-77EB6105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D08-6E97-4A5F-BA7E-FE582BDA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9AA-F3C0-4AF6-8226-A9AFD307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2FB-EF04-4609-B63D-8DF245A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355-656B-451C-9360-CE9D431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561D-CE54-4FBF-8246-861F265AC3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6C93-A7F3-45B4-ACEE-A5637C20EA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:\微博研究\腾讯微博\腾讯微博设计文件\微博模版\logo大副本.png"/>
          <p:cNvPicPr/>
          <p:nvPr/>
        </p:nvPicPr>
        <p:blipFill>
          <a:blip r:embed="rId3"/>
          <a:stretch/>
        </p:blipFill>
        <p:spPr>
          <a:xfrm>
            <a:off x="179280" y="0"/>
            <a:ext cx="1440000" cy="53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4067280" y="6419880"/>
            <a:ext cx="5076720" cy="43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5"/>
          <a:stretch/>
        </p:blipFill>
        <p:spPr>
          <a:xfrm>
            <a:off x="0" y="6419880"/>
            <a:ext cx="5076720" cy="43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:\微博研究\腾讯微博\腾讯微博设计文件\蒲公英素材.png"/>
          <p:cNvPicPr/>
          <p:nvPr/>
        </p:nvPicPr>
        <p:blipFill>
          <a:blip r:embed="rId6"/>
          <a:srcRect l="52563" t="38119" r="23791" b="33863"/>
          <a:stretch/>
        </p:blipFill>
        <p:spPr>
          <a:xfrm>
            <a:off x="1908000" y="6381720"/>
            <a:ext cx="648000" cy="47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F:\微博研究\腾讯微博\腾讯微博设计文件\蒲公英素材.png"/>
          <p:cNvPicPr/>
          <p:nvPr/>
        </p:nvPicPr>
        <p:blipFill>
          <a:blip r:embed="rId7"/>
          <a:srcRect l="25609" t="0" r="36938" b="42276"/>
          <a:stretch/>
        </p:blipFill>
        <p:spPr>
          <a:xfrm rot="20704800">
            <a:off x="1074240" y="6451200"/>
            <a:ext cx="289080" cy="27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:\微博研究\腾讯微博\腾讯微博设计文件\蒲公英素材.png"/>
          <p:cNvPicPr/>
          <p:nvPr/>
        </p:nvPicPr>
        <p:blipFill>
          <a:blip r:embed="rId8"/>
          <a:srcRect l="15783" t="0" r="36946" b="15287"/>
          <a:stretch/>
        </p:blipFill>
        <p:spPr>
          <a:xfrm>
            <a:off x="539640" y="6297480"/>
            <a:ext cx="503280" cy="560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F:\微博研究\腾讯微博\腾讯微博设计文件\蒲公英素材.png"/>
          <p:cNvPicPr/>
          <p:nvPr/>
        </p:nvPicPr>
        <p:blipFill>
          <a:blip r:embed="rId9"/>
          <a:srcRect l="60517" t="24635" r="28988" b="58431"/>
          <a:stretch/>
        </p:blipFill>
        <p:spPr>
          <a:xfrm>
            <a:off x="557280" y="671364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7" descr="内页背景白.png"/>
          <p:cNvPicPr/>
          <p:nvPr/>
        </p:nvPicPr>
        <p:blipFill>
          <a:blip r:embed="rId10"/>
          <a:stretch/>
        </p:blipFill>
        <p:spPr>
          <a:xfrm>
            <a:off x="0" y="333360"/>
            <a:ext cx="9144000" cy="626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I:\kaka Tencent D\第三部分 案例分享\招商案例\2010年腾讯世博\Expo 2010 tencent new logo.jpg"/>
          <p:cNvPicPr/>
          <p:nvPr/>
        </p:nvPicPr>
        <p:blipFill>
          <a:blip r:embed="rId11"/>
          <a:srcRect l="0" t="0" r="4440" b="0"/>
          <a:stretch/>
        </p:blipFill>
        <p:spPr>
          <a:xfrm>
            <a:off x="7431120" y="0"/>
            <a:ext cx="1101600" cy="69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92" name="Picture 8" descr="F:\微博研究\腾讯微博\腾讯微博设计文件\蒲公英素材.png"/>
          <p:cNvPicPr/>
          <p:nvPr/>
        </p:nvPicPr>
        <p:blipFill>
          <a:blip r:embed="rId12"/>
          <a:srcRect l="52563" t="38119" r="23791" b="33863"/>
          <a:stretch/>
        </p:blipFill>
        <p:spPr>
          <a:xfrm>
            <a:off x="2987640" y="63086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3F0-5D25-453C-8FAE-C1BF4B4F8D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2000" y="2060280"/>
            <a:ext cx="87836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ff"/>
                </a:solidFill>
                <a:latin typeface="微软雅黑"/>
                <a:ea typeface="微软雅黑"/>
              </a:rPr>
              <a:t>广东中学共青团微博注册指引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注册使用过程遇到任何问题可以与团省委少年部联系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联系电话：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020-871856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谢谢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3"/>
          <p:cNvSpPr/>
          <p:nvPr/>
        </p:nvSpPr>
        <p:spPr>
          <a:xfrm>
            <a:off x="2268360" y="779400"/>
            <a:ext cx="439272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fb8e9">
                  <a:alpha val="4627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6200" y="764640"/>
            <a:ext cx="7788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cc"/>
                </a:solidFill>
                <a:latin typeface="微软雅黑"/>
                <a:ea typeface="微软雅黑"/>
              </a:rPr>
              <a:t>	</a:t>
            </a:r>
            <a:r>
              <a:rPr b="1" lang="en-US" sz="1800" spc="-1" strike="noStrike">
                <a:solidFill>
                  <a:srgbClr val="0066cc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66cc"/>
                </a:solidFill>
                <a:latin typeface="微软雅黑"/>
                <a:ea typeface="微软雅黑"/>
              </a:rPr>
              <a:t>、开通腾讯微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通过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QQ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号码注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建议各单位注册专门的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QQ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号码作为团体微博使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之后登陆：</a:t>
            </a:r>
            <a:r>
              <a:rPr b="1" lang="en-US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http://t.qq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输入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QQ</a:t>
            </a: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号码和密码，即可快速开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注册2"/>
          <p:cNvPicPr/>
          <p:nvPr/>
        </p:nvPicPr>
        <p:blipFill>
          <a:blip r:embed="rId2"/>
          <a:stretch/>
        </p:blipFill>
        <p:spPr>
          <a:xfrm>
            <a:off x="1044720" y="3070080"/>
            <a:ext cx="702612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修改基本资料"/>
          <p:cNvPicPr/>
          <p:nvPr/>
        </p:nvPicPr>
        <p:blipFill>
          <a:blip r:embed="rId2"/>
          <a:stretch/>
        </p:blipFill>
        <p:spPr>
          <a:xfrm>
            <a:off x="2700360" y="1917720"/>
            <a:ext cx="5238720" cy="37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4000"/>
              </a:srgbClr>
            </a:outerShdw>
          </a:effectLst>
        </p:spPr>
      </p:pic>
      <p:sp>
        <p:nvSpPr>
          <p:cNvPr id="177" name="Text Box 3"/>
          <p:cNvSpPr/>
          <p:nvPr/>
        </p:nvSpPr>
        <p:spPr>
          <a:xfrm>
            <a:off x="2124000" y="838080"/>
            <a:ext cx="507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、修改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修改基本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0" y="1197000"/>
            <a:ext cx="273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请按规则修改姓名。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姓名以“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XX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市（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XX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县）中学共青团”命名。各中学团委、学生会、社团建立团体实名微博，微博名称采用本团学组织的全称，如“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XX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中学团委”、“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XX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中学学生会”、“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XX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中学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XX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社团”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请务必修改头像。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市县级团委和中学团委可用团徽作为头像；学生会、社团可以用团体标志或校园图片作为头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其他资料可视情况填写，不作具体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3060720" y="1341360"/>
            <a:ext cx="5473800" cy="911160"/>
          </a:xfrm>
          <a:prstGeom prst="rect">
            <a:avLst/>
          </a:prstGeom>
          <a:solidFill>
            <a:srgbClr val="d1dae9"/>
          </a:solid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绑定手机"/>
          <p:cNvPicPr/>
          <p:nvPr/>
        </p:nvPicPr>
        <p:blipFill>
          <a:blip r:embed="rId2"/>
          <a:stretch/>
        </p:blipFill>
        <p:spPr>
          <a:xfrm>
            <a:off x="2771640" y="2492280"/>
            <a:ext cx="5819760" cy="333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4000"/>
              </a:srgbClr>
            </a:outerShdw>
          </a:effectLst>
        </p:spPr>
      </p:pic>
      <p:sp>
        <p:nvSpPr>
          <p:cNvPr id="181" name="Text Box 3"/>
          <p:cNvSpPr/>
          <p:nvPr/>
        </p:nvSpPr>
        <p:spPr>
          <a:xfrm>
            <a:off x="3419640" y="765000"/>
            <a:ext cx="507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绑定手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手机号码与自己的微博绑定，通过编辑短信的方式来更新你的微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9760" y="1479600"/>
            <a:ext cx="204624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绑定手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请填写负责该微博管理人的手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团体微博的管理员一般由中学团委的宣传委员，学生会、学生社团中负责宣传工作的学生干部担任，负责团体微博的建立和日常管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611280" y="1052640"/>
            <a:ext cx="77072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、发布第一条广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由于必须发布广播之后才能顺利完成注册程序，</a:t>
            </a:r>
            <a:r>
              <a:rPr b="1" lang="zh-CN" sz="2000" spc="-1" strike="noStrike">
                <a:solidFill>
                  <a:srgbClr val="ff3300"/>
                </a:solidFill>
                <a:latin typeface="微软雅黑"/>
                <a:ea typeface="微软雅黑"/>
              </a:rPr>
              <a:t>请务必发布第一条广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发布内容统一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大家好！我是</a:t>
            </a: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中学团委（学生会、</a:t>
            </a: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社团）的官方微博，欢迎大家关注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微软雅黑"/>
                <a:ea typeface="微软雅黑"/>
              </a:rPr>
              <a:t>然后，点击“广播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76360" y="4437000"/>
            <a:ext cx="5829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15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收听广东中学共青团官方微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）在右上方的的搜索框中输入“广东中学共青团”，或者“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GDZXGQT”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，便可搜索到“广东中学共青团官方微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260360" y="2854440"/>
            <a:ext cx="660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2700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点击“立即收听”，即可收听“广东中学共青团官方微博”的信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4720" y="3573360"/>
            <a:ext cx="5933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2031840" y="-722160"/>
            <a:ext cx="508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981000"/>
            <a:ext cx="8208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上报注册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完成上述步骤后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（请确认已上传头像并发布第一条广播）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，下载填写附件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《广东中学共青团微博认证登记表》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各中学团委负责汇总本校团委、学生会、社团的登记表后报县级团委，县级团委汇总后报市级团委，由市级团委汇总于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日前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报送团省委少年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（团省委少年部邮箱：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tswsnb2008@163.com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主办单位将统一进行注册认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文本占位符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9433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549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如何在腾讯微博与参与全省中学共青团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各地各中学的微博可以直接与“广东中学共青团官方微博”互动，向全省展示自己学校、学生会、社团的活动。“广东中学共青团微博”将择优对优秀活动进行转发并在全省主页进行展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互动方法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在输入框里键入：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#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人生对话我的中国梦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# +@GDZXGQT +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想说的话，最后点击广播即可完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78483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19:23Z</dcterms:created>
  <dc:creator>daisy</dc:creator>
  <dc:description/>
  <dc:language>en-US</dc:language>
  <cp:lastModifiedBy>微软用户</cp:lastModifiedBy>
  <cp:lastPrinted>1899-12-30T00:00:00Z</cp:lastPrinted>
  <dcterms:modified xsi:type="dcterms:W3CDTF">2013-05-17T05:45:59Z</dcterms:modified>
  <cp:revision>89</cp:revision>
  <dc:subject/>
  <dc:title>国内媒体合作运营整体策略--方法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